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775C-A576-4734-A312-DE0CB7F12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1D16-C680-4A60-B873-9DB1A210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A8FE-0457-411F-A52C-A4C69C2C7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FD89-FDB6-4957-9D13-4DD230B9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0D57-BAF1-4622-9B26-0019FFC0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864E-C6DF-4515-8EDF-D9D13EA2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B8E9-90D9-4D94-A7FB-35969C4A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F0F1-11AB-4D20-AE4D-97ADFAEB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CAD1-D4E6-4F96-9570-F6555E55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F959-C357-4BE8-9ADD-07618779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A63B-E0C8-476B-99A9-9ED4324A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B02F-69EC-4DD2-9AE9-5B40DBF7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537C-A410-4CD1-BD63-E4F18C32F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8945877cEaAGZliKr_ph" descr=""/>
          <p:cNvPicPr/>
          <p:nvPr/>
        </p:nvPicPr>
        <p:blipFill>
          <a:blip r:embed="rId2"/>
          <a:stretch/>
        </p:blipFill>
        <p:spPr>
          <a:xfrm>
            <a:off x="0" y="0"/>
            <a:ext cx="5572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935960" y="44280"/>
            <a:ext cx="42969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ثلِ الإبنِ الشاطِ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رح إرجَع يا ر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ندَك يا هالناطِ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عدروب المحب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ا قدِّملك قل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مثلِ الإبن الشاط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عندك يخل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دربي يا ر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47997209garmnR_ph" descr=""/>
          <p:cNvPicPr/>
          <p:nvPr/>
        </p:nvPicPr>
        <p:blipFill>
          <a:blip r:embed="rId2"/>
          <a:stretch/>
        </p:blipFill>
        <p:spPr>
          <a:xfrm>
            <a:off x="0" y="0"/>
            <a:ext cx="56307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212800" y="44280"/>
            <a:ext cx="3916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ا ما بَدّي الولا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ولا لِبس الخوات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َدي قلب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يا ربي يا حبي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ا ما بَدّي الولا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ولا لِبس الخوات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َدي قلب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يا ربي يا حبي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يا حبي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3:59:33Z</dcterms:created>
  <dc:creator>USER</dc:creator>
  <dc:description/>
  <dc:language>en-US</dc:language>
  <cp:lastModifiedBy>USER</cp:lastModifiedBy>
  <dcterms:modified xsi:type="dcterms:W3CDTF">2002-10-31T14:12:43Z</dcterms:modified>
  <cp:revision>7</cp:revision>
  <dc:subject/>
  <dc:title>PowerPoint Presentation</dc:title>
</cp:coreProperties>
</file>